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9A8C-B6FD-4072-97D8-3F9E7F8A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4EEC-224C-422E-8187-6AD2AA62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223-26C3-4765-B34B-5072D425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C61-75AE-4CA3-BF77-3B2FE5CB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D37D-B448-4BA6-A1EF-9B3D654C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8D48-3BAC-46DE-B7C2-0E008ED9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48D6-BE9F-495D-BAD1-C4A9E3E4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2639-0E4A-445E-99F2-73D15102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5F1D-8737-4337-929E-9861426A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E142-ACB4-4CF9-A33D-46C35EC8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8A10-D252-4FEB-8DD4-4607F764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5AC-8C8A-44F9-9BFB-D7156419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9D63-F71F-49A5-9F2A-262A7AA6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FABA-538C-4C4B-9B63-D1A2C63D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2F9D-37B0-4331-A468-E6AAA351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952C-B81F-4062-BD29-B49DE794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6D0C-AB58-4865-AFE3-CE3C03E6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3DE-F1C9-4E31-AFBE-05B13130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B73-CE1C-4AD5-B04A-D1C384B5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BC2D-8227-49B2-BC38-D5576120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5E4-2428-488B-8A0A-9C0CE8B9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B68E-DF9C-4E22-9F53-FC2411FD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E377-45BC-45B0-9AD4-6A31EE49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8C77-D68A-4786-8D73-BBCC9ED9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9793-835F-4CDB-B498-F78C2675C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4919-9092-4919-965B-24A448D2B0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video" Target="file:///tmp/home/.config/libreoffice/4/user/gallery/Embedded%20Sound%202" TargetMode="External"/><Relationship Id="rId4" Type="http://schemas.microsoft.com/office/2007/relationships/media" Target="file:///tmp/home/.config/libreoffice/4/user/gallery/Embedded%20Sound%202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914400"/>
            <a:ext cx="6324480" cy="26668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Times New Roman"/>
              </a:rPr>
              <a:t>Sprains and Bruis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440" y="4723920"/>
            <a:ext cx="3352680" cy="685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Jesse Nick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Sprains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uises Occu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352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ains result from a joint being suddenly and violently stretched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s that are frequently sprained are wrists, knees, and ank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ises result from a blow to parts of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rot="10800000">
            <a:off x="6477120" y="3979440"/>
            <a:ext cx="3657600" cy="2878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962520" y="6172200"/>
            <a:ext cx="7596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 of Sprains and Bru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210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ains and bruises are very common, but usually not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rained or bruised part is often painful, and may become swol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10080" y="4191120"/>
            <a:ext cx="32767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Relieve P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Sw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use the sprained or bruised part of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vate the sprained or bruised pa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cold packs for the first 24 hours after the sprain or bruise occ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pain and swelling doesn’t stop, see a do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86200" y="4800600"/>
            <a:ext cx="1655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6:52Z</dcterms:created>
  <dc:creator>Kraybill Campus LMS</dc:creator>
  <dc:description/>
  <dc:language>en-US</dc:language>
  <cp:lastModifiedBy>Kraybill Campus LMS</cp:lastModifiedBy>
  <dcterms:modified xsi:type="dcterms:W3CDTF">2011-05-25T16:05:58Z</dcterms:modified>
  <cp:revision>6</cp:revision>
  <dc:subject/>
  <dc:title>Sprains and Bruises</dc:title>
</cp:coreProperties>
</file>